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00D71-4789-4837-B8EB-FCE2A35C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815DA-718B-4CFD-8BF3-534CBF8E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AB7B-4923-4FD2-927A-D084AD52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DB05-AF0E-48AB-B9B1-D53EC3BF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2400-C11A-419E-B9A8-5736D03C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20A-D4C1-4035-ACFF-8815222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0D12-01D7-4866-9280-3AD2FC4E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4F9C-ABC6-4498-A4FA-ADFAC6C0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B004-FC1E-40EB-9A2F-C6876EE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1AA-20CE-45D4-99A4-67AF9229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FE6F-AD4F-4024-B75F-0E8EB4F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CF0D-5E9E-43FF-8C15-E150E3D6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678C-031A-419B-ACF8-879C4CC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7ED3-321C-4D73-8648-8F1D68E2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7BB-FF7E-45FC-BA16-195BB47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AD6-0702-454E-B633-3B0723B2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F4B2-D93D-4C42-B1AE-51B3F31F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30CC-9244-4758-B046-6E38725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272F-C802-4B06-BA0F-A649BC9A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8829-B59C-48BD-ADDC-D6C767A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D949-3D06-4C2C-BE56-076DD443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06F8-3799-4D56-9EFB-D6DAE5A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73AB-9E82-44AC-AF4C-44CFA543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621A-1277-4E76-B440-3CECC16D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1CD7-B039-4362-8857-FA0F01FA1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5672-E83B-4B3D-8396-392A6F87A3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e5e5ff"/>
                </a:solidFill>
                <a:latin typeface="Garamond"/>
              </a:rPr>
              <a:t>Chinese Men on the Goldfield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By Andrew B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did they br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Chinese men first arrived in Victoria they had bring pickaxes, money, shovels, buckets, windlass, tents, blankets, seeds, plants and crad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en did Chinese men first arrived in Victoria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hinese men first arrived in Victoria in 185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id the Chinese men do with their gold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Chinese men had found gold, they send it back to their family in China and stays on the goldfields to dig for m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y are they called Wog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y were called Wogs because they are a wise orintenal gentle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y don’t people like them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People didn’t like them because they never seen them bef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Europeans hates because when they didn’t find any gold, they left the goldfields and the Chinese came to the same spot and found lots of go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When the Europeans found out they plan to kill the Chinese when they’re aslee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Why does some of the Chinese built shops instead of digging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ome Chinese dig for gold and some built shops because their bodies were weak and cannot handle the digg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When they first came here, they didn’t just bring tools and supplies they also bring plants and see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Were there many Chinese men on the goldfield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re were tons and thousands of Chinese men on the goldfiel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Some digs for gold and some built to sell plants and seeds for gol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5e5ff"/>
                </a:solidFill>
                <a:latin typeface="Garamond"/>
              </a:rPr>
              <a:t>Why did the Chinese men left their family in China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men left their family in China because they think that it’s dangerous to travel with their fami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y might get killed or robbed by bushrangers while on the goldfiel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y left their families in China because when they found some gold, they can send them the gold back to Ch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at did they ea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eats bread and drinks tea and if some don’t have tea then they have to find fresh water but it’s very hard to f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at did they wea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wear their traditional clothing with loose blue shirts and trousers with a distinctive cone-shaped straw h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e5e5ff"/>
                </a:solidFill>
                <a:latin typeface="Garamond"/>
              </a:rPr>
              <a:t>Where did they sleep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The Chinese finds a spot and put out their tent and sleep inside the tent or if they don’t have a tent they can sleep in a hot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3:19:54Z</dcterms:created>
  <dc:creator>andrew_bui</dc:creator>
  <dc:description/>
  <dc:language>en-US</dc:language>
  <cp:lastModifiedBy>andrew_bui</cp:lastModifiedBy>
  <dcterms:modified xsi:type="dcterms:W3CDTF">2010-09-15T05:07:41Z</dcterms:modified>
  <cp:revision>6</cp:revision>
  <dc:subject/>
  <dc:title>Chinese Men on the Goldfields</dc:title>
</cp:coreProperties>
</file>